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21A0-C318-49F9-816D-D477548E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6E2B-1A84-4424-A382-179CB753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BC1D-1DC1-475C-8366-B9AD33A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4C78-D9EA-4A2F-97E3-F5DA2D14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0AAD-147B-418F-B13A-5867A35A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AC72-3E44-4422-90FE-783C2CA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B352-707D-4F1E-9855-AD9F52A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90DE-2EDF-4BC8-92B5-A9EF192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838-5E3F-4065-B2B2-9AFBAE2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A0F9-1085-4634-8A03-2078AE3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1695-2F07-4329-9CC8-C279A44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1B7B-C003-41A8-B525-60B56C7A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86E0-38BE-4029-948A-3CB52D6F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B884-C534-41BC-AF48-A349FC4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550-E209-4B48-9214-C2D80536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FC23-8A03-4619-83E2-B373BAE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0C45-FCAB-49B0-9814-040045B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77B8-96B2-490A-B8C5-94089BB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5B25-99C2-46B9-842B-6B3C0F1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9BCA-5424-48A3-A575-F8662819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EBE8-094F-4607-8F59-471FF8F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024A-FA90-4765-B348-2762871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A334-0342-4E10-BF9F-1FFD03D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F3F9-F619-4D41-A18E-AEE6438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1AF8-B488-4F43-B65C-DDAB6A7B0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F359-969C-4F1C-9970-65747CD031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Sent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players begun wearing safety gear football produced so many injuries that colleges often banned the g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im brown hold the nfl record for touchdowns, having one hundred twenty-six to his cre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#9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your own dictionary for 10 words that you and your friends 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Sent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wing tobacco for exampel causes mouth and throat concers as well as painful progressive tooth and gum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s. Walker asked “Class how would you rank the following qualities honesty kindness, love, achievment, self esteem, loyalty and financial success”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#10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think the world will be like in 2060? 3060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riday Warm-up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ce/Adv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(noun) helpful suggestion or opin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) You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is always welcome because you have good idea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(verb) to offer advice or sugges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) Stan’s lawye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dvise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him to remain silent under questioning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81280"/>
            <a:ext cx="8763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My (advice, advise) to you is to calm down and count to 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It is always easier to give (advice, advise) than to follow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Bill is quick to offer his (advice, advise) on any su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I strongly (advice, advise) you to check your French home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6:59Z</dcterms:created>
  <dc:creator>tpagel</dc:creator>
  <dc:description/>
  <dc:language>en-US</dc:language>
  <cp:lastModifiedBy>tpagel</cp:lastModifiedBy>
  <dcterms:modified xsi:type="dcterms:W3CDTF">2010-06-03T16:38:17Z</dcterms:modified>
  <cp:revision>1</cp:revision>
  <dc:subject/>
  <dc:title>Warm-Up Sentences</dc:title>
</cp:coreProperties>
</file>